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EB3-2E39-443F-9E22-AC1F7994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D75-71E8-411A-B309-DD45ABB3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E0B-9F24-4992-B0D2-6D6B1027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B9B-565E-4A89-86C9-1CCA51B0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959-6136-4342-9888-5793F11A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4BF-9D8A-4BAA-B16B-02A99132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C7A3-713C-4623-8D49-8DD482CD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6ED-7D6F-46C6-B812-A7FF8CB9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078-F0B4-477B-99C4-3FF047B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8E0-E435-42C0-9155-6FA3BE13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098-9030-4FCD-85F9-4B5D4CC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781-8F69-4DEA-96A1-F5CBEAE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C69-4720-4F57-B5D6-AB49C306C7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INIZIA UNA NUOVA VITA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3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Se paragoniamo il numero di aborti con il numero dei nati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si scopre che ogni 10 nati…..altri 6 sono stati abortit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Significa che per ogni bambino concepito, uno nasce e uno muore prima ancora di nasc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16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57400" y="1627200"/>
            <a:ext cx="5029200" cy="41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18 </a:t>
            </a:r>
            <a:r>
              <a:rPr b="1" lang="es-MX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609480"/>
            <a:ext cx="609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714240"/>
            <a:ext cx="7010640" cy="567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153280" y="609480"/>
            <a:ext cx="533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ETTI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858000" cy="573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09480"/>
            <a:ext cx="533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ETTI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679320"/>
            <a:ext cx="6934320" cy="581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LA VIT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5867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È BELLA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3672000" cy="487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48720" y="533520"/>
            <a:ext cx="533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SETTI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8380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ANCHE TU, come MOSE’e GESU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25146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SEI STATO SALV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41911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7200" spc="-1" strike="noStrike">
                <a:solidFill>
                  <a:srgbClr val="ffffff"/>
                </a:solidFill>
                <a:latin typeface="Times New Roman"/>
              </a:rPr>
              <a:t>PERCHE’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remove" presetClass="emph" presetID="33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6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62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4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1479600"/>
            <a:ext cx="3962160" cy="34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5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1569960"/>
            <a:ext cx="4114800" cy="40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45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6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1488960"/>
            <a:ext cx="4572000" cy="38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11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91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12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..è lungo 7 centime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191120" cy="2859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886200" cy="265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43000" y="1219320"/>
            <a:ext cx="702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ON LA LEGGE SULL’ABORTO, LA STORIA DI TANTI BAMBINI E BAMBINE FINISCE QUI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8000"/>
                </a:solidFill>
                <a:latin typeface="Times New Roman"/>
              </a:rPr>
              <a:t>SENZA DI ESSA, ALLORA È POSSIBILE CHE LA STORIA CONTINUI...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LA DECISIONE STA NELLE MANI DEI NOSTRI SENATO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ñaskdflnas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760" y="457200"/>
            <a:ext cx="31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12 SETTI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16 SETTIM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054400" cy="379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....poteva  nascere, ma l’hanno uccis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Sapete quanti aborti ci sono stati nell’anno in cui siete na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NUMERO ABORTI IN ITALIA DAL 1978 AD OGG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nn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bort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78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66.688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79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87.752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0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220.263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1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224.377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2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234.593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3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231.404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4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27.809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5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27.809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5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10.597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6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98.375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7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91.469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79.193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89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71.684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0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65.980 2.512.184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1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60.532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2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52.424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3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48.033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4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38.952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5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39.549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6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40.398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7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40.525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8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38.357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1999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39.213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35.133 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130.512* *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02:19:07Z</dcterms:created>
  <dc:creator>.</dc:creator>
  <dc:description/>
  <dc:language>en-US</dc:language>
  <cp:lastModifiedBy>Stefo&amp;Stefi</cp:lastModifiedBy>
  <dcterms:modified xsi:type="dcterms:W3CDTF">2007-07-14T16:45:23Z</dcterms:modified>
  <cp:revision>33</cp:revision>
  <dc:subject/>
  <dc:title>Presentación de PowerPoint</dc:title>
</cp:coreProperties>
</file>